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0A2-BB18-42BB-98E7-03AF13C8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3EA3-7BFD-4D24-ADC7-297EA303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7C3-3969-495A-B809-2B688647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1B2-4CCD-4D8D-B706-3BCF66E4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0E87-98DB-440C-867C-1C099C46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77E-5061-479C-A372-30834495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952F-1B15-4917-9D96-0CED0438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BEF-0D28-43AC-A989-97968AB4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C4D-062B-4002-8034-744B5EE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4C7-8474-41A6-9827-1EADCF49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FF7-1E18-447B-AAC9-1D5D2637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84D6-A325-409D-B200-D8F9D56A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0599-CD38-4E3E-BFC1-944FAC398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el 4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Volker Solin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esse viel Obst und Gemus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8672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trinke Alkohol n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86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jogge jeden ta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Coloring page jog"/>
          <p:cNvPicPr/>
          <p:nvPr/>
        </p:nvPicPr>
        <p:blipFill>
          <a:blip r:embed="rId1"/>
          <a:stretch/>
        </p:blipFill>
        <p:spPr>
          <a:xfrm>
            <a:off x="3048120" y="1600200"/>
            <a:ext cx="31557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99cc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uchen is nicht gut fur mein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ruder’s Gesundhe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esse keine 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leis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33:44Z</dcterms:created>
  <dc:creator>CUSD220</dc:creator>
  <dc:description/>
  <dc:language>en-US</dc:language>
  <cp:lastModifiedBy>CUSD220</cp:lastModifiedBy>
  <dcterms:modified xsi:type="dcterms:W3CDTF">2012-03-05T13:43:18Z</dcterms:modified>
  <cp:revision>3</cp:revision>
  <dc:subject/>
  <dc:title>Kapitel 4 Project</dc:title>
</cp:coreProperties>
</file>